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1C3323-8ACD-4BE5-980F-C26EFD2130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B33956-ECEE-4614-AC9C-E9CC6C5CC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68D069-7C47-4C3C-A352-635F24CDA2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E66388-59D0-4A50-B3CD-AF349A89C7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501F6-F376-4365-A9AC-B72F5928E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E687C-B11B-4455-ABDB-57C69D205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85BCC-86CA-4599-901C-5EE2F435D2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F76846-B5A2-4324-B434-0E8E24D22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BA02E-89AC-412E-BE6B-A2F5F6A91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35623-8249-4C45-8FAD-51FED286F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FC3AA-7196-41D4-B3AC-7701F5494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0F8231-C3E3-421B-BC5D-B207A486A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070F4-6684-49C1-AF6C-FEA05AAD1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7AFEF-C223-4AC8-870D-C6C78A91D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A85C0-089A-4950-856D-A7296339B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61757B-573F-42CC-A331-A11BBD721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AF870-856D-44B7-979B-7F8B76970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D8308C-A65F-47C6-82F8-40EBE54835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F5D30D-B935-4252-B50C-E7A83D284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068C4D-4985-49D8-A078-5EF01C26F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2F3E5C-F824-47AD-8573-99B2B26BF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19A36A-8619-4BEB-934D-3C7FEA550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70F105-FD9B-44F0-9F73-AAA7F9BB71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4A52F2-8652-4D92-875C-33FF64B6753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7461-3E87-48E1-A170-586FDD9BB5D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7766-3EF4-44CA-8D54-E1BE7CA6549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987640" y="4292280"/>
            <a:ext cx="6019920" cy="1152360"/>
          </a:xfrm>
          <a:prstGeom prst="rect">
            <a:avLst/>
          </a:prstGeom>
          <a:noFill/>
          <a:ln w="0">
            <a:noFill/>
          </a:ln>
        </p:spPr>
        <p:txBody>
          <a:bodyPr anchor="t">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endParaRPr b="0" lang="en-US" sz="3400" spc="-1" strike="noStrike">
              <a:solidFill>
                <a:srgbClr val="000000"/>
              </a:solidFill>
              <a:latin typeface="Arial"/>
            </a:endParaRPr>
          </a:p>
        </p:txBody>
      </p:sp>
      <p:sp>
        <p:nvSpPr>
          <p:cNvPr id="107" name="PlaceHolder 2"/>
          <p:cNvSpPr>
            <a:spLocks noGrp="1"/>
          </p:cNvSpPr>
          <p:nvPr>
            <p:ph type="title"/>
          </p:nvPr>
        </p:nvSpPr>
        <p:spPr>
          <a:xfrm>
            <a:off x="2916360" y="1700280"/>
            <a:ext cx="6091200" cy="25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2019-2021 жылдарға арналған </a:t>
            </a:r>
            <a:r>
              <a:rPr b="0" i="1" lang="kk-KZ" sz="5000" spc="-1" strike="noStrike">
                <a:solidFill>
                  <a:srgbClr val="ffffff"/>
                </a:solidFill>
                <a:latin typeface="Arial"/>
              </a:rPr>
              <a:t>АЗАМАТТЫҚ</a:t>
            </a:r>
            <a:r>
              <a:rPr b="0" i="1" lang="ru-RU" sz="5000" spc="-1" strike="noStrike">
                <a:solidFill>
                  <a:srgbClr val="ffffff"/>
                </a:solidFill>
                <a:latin typeface="Arial"/>
              </a:rPr>
              <a:t> БЮДЖЕТ</a:t>
            </a:r>
            <a:endParaRPr b="0" lang="en-US" sz="5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5280" y="981000"/>
            <a:ext cx="822960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Arial"/>
              </a:rPr>
              <a:t>Құрметті сайтқа кірушілер!</a:t>
            </a:r>
            <a:endParaRPr b="0" lang="en-US" sz="2800" spc="-1" strike="noStrike">
              <a:solidFill>
                <a:srgbClr val="000000"/>
              </a:solidFill>
              <a:latin typeface="Arial"/>
            </a:endParaRPr>
          </a:p>
        </p:txBody>
      </p:sp>
      <p:sp>
        <p:nvSpPr>
          <p:cNvPr id="109" name=""/>
          <p:cNvSpPr txBox="1"/>
          <p:nvPr/>
        </p:nvSpPr>
        <p:spPr>
          <a:xfrm>
            <a:off x="285840" y="1500120"/>
            <a:ext cx="8501040" cy="4500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r>
              <a:rPr b="0" lang="ru-RU" sz="1800" spc="-1" strike="noStrike">
                <a:solidFill>
                  <a:srgbClr val="000000"/>
                </a:solidFill>
                <a:latin typeface="Arial"/>
              </a:rPr>
              <a:t>Сіздердің назарларыңызға Қарқаралы ауданының білім бөлімі бюджетінің негізгі көрсеткіштері туралы ақпараттық мазмұндағы 2019-2021 жылдарға арналған азаматтық бюджеті ұсынылады.</a:t>
            </a:r>
            <a:endParaRPr b="0" lang="en-US" sz="1800" spc="-1" strike="noStrike">
              <a:solidFill>
                <a:srgbClr val="000000"/>
              </a:solidFill>
              <a:latin typeface="Arial"/>
            </a:endParaRPr>
          </a:p>
          <a:p>
            <a:pPr marL="343080" indent="-343080" algn="just">
              <a:spcBef>
                <a:spcPts val="2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Білім бөлімі бюджеті ауданды</a:t>
            </a:r>
            <a:r>
              <a:rPr b="0" lang="kk-KZ" sz="1800" spc="-1" strike="noStrike">
                <a:solidFill>
                  <a:srgbClr val="000000"/>
                </a:solidFill>
                <a:latin typeface="Arial"/>
              </a:rPr>
              <a:t>қ</a:t>
            </a:r>
            <a:r>
              <a:rPr b="0" lang="ru-RU" sz="1800" spc="-1" strike="noStrike">
                <a:solidFill>
                  <a:srgbClr val="000000"/>
                </a:solidFill>
                <a:latin typeface="Arial"/>
              </a:rPr>
              <a:t> мәслихат сессиясының «2018 жылғы 26 желтоқсандағы </a:t>
            </a:r>
            <a:r>
              <a:rPr b="0" lang="ru-RU" sz="1800" spc="-1" strike="noStrike">
                <a:solidFill>
                  <a:srgbClr val="000000"/>
                </a:solidFill>
                <a:latin typeface="Arial"/>
                <a:ea typeface="Times New Roman"/>
              </a:rPr>
              <a:t> № </a:t>
            </a:r>
            <a:r>
              <a:rPr b="0" lang="en-US" sz="1800" spc="-1" strike="noStrike">
                <a:solidFill>
                  <a:srgbClr val="000000"/>
                </a:solidFill>
                <a:latin typeface="Arial"/>
                <a:ea typeface="Times New Roman"/>
              </a:rPr>
              <a:t>VI-</a:t>
            </a:r>
            <a:r>
              <a:rPr b="0" lang="ru-RU" sz="1800" spc="-1" strike="noStrike">
                <a:solidFill>
                  <a:srgbClr val="000000"/>
                </a:solidFill>
                <a:latin typeface="Arial"/>
                <a:ea typeface="Times New Roman"/>
              </a:rPr>
              <a:t>37/308</a:t>
            </a:r>
            <a:r>
              <a:rPr b="0" lang="ru-RU" sz="1800" spc="-1" strike="noStrike">
                <a:solidFill>
                  <a:srgbClr val="000000"/>
                </a:solidFill>
                <a:latin typeface="Arial"/>
              </a:rPr>
              <a:t> шеші</a:t>
            </a:r>
            <a:r>
              <a:rPr b="0" lang="kk-KZ" sz="1800" spc="-1" strike="noStrike">
                <a:solidFill>
                  <a:srgbClr val="000000"/>
                </a:solidFill>
                <a:latin typeface="Arial"/>
              </a:rPr>
              <a:t>мін</a:t>
            </a:r>
            <a:r>
              <a:rPr b="0" lang="ru-RU" sz="1800" spc="-1" strike="noStrike">
                <a:solidFill>
                  <a:srgbClr val="000000"/>
                </a:solidFill>
                <a:latin typeface="Arial"/>
              </a:rPr>
              <a:t> </a:t>
            </a:r>
            <a:r>
              <a:rPr b="0" lang="kk-KZ" sz="1800" spc="-1" strike="noStrike">
                <a:solidFill>
                  <a:srgbClr val="000000"/>
                </a:solidFill>
                <a:latin typeface="Arial"/>
              </a:rPr>
              <a:t>іске асыру туралы</a:t>
            </a:r>
            <a:r>
              <a:rPr b="0" lang="ru-RU" sz="1800" spc="-1" strike="noStrike">
                <a:solidFill>
                  <a:srgbClr val="000000"/>
                </a:solidFill>
                <a:latin typeface="Arial"/>
              </a:rPr>
              <a:t>» </a:t>
            </a:r>
            <a:r>
              <a:rPr b="0" lang="kk-KZ" sz="1800" spc="-1" strike="noStrike">
                <a:solidFill>
                  <a:srgbClr val="000000"/>
                </a:solidFill>
                <a:latin typeface="Arial"/>
              </a:rPr>
              <a:t>Қарқаралы аудан әкімдігінің 2018 жылғы 27 желтоқсандағы № 442 қаулысымен </a:t>
            </a:r>
            <a:r>
              <a:rPr b="0" lang="ru-RU" sz="1800" spc="-1" strike="noStrike">
                <a:solidFill>
                  <a:srgbClr val="000000"/>
                </a:solidFill>
                <a:latin typeface="Arial"/>
              </a:rPr>
              <a:t>бекітілген </a:t>
            </a:r>
            <a:r>
              <a:rPr b="0" lang="kk-KZ" sz="1800" spc="-1" strike="noStrike">
                <a:solidFill>
                  <a:srgbClr val="000000"/>
                </a:solidFill>
                <a:latin typeface="Arial"/>
              </a:rPr>
              <a:t>Қарқаралы аудан әкімдігінің 2019 жылғы 23 желтоқсандағы № 410 «2019-2021 жылғы аудандық бюджет туралы»  қаулысына өзгерістер енгізу туралы қаулысымен бекітілген.</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Бюджеттік бағдарламалар білім бөлімі басшысының                      2018 жылғы 29 желтоқсандағы № 507 бұйрығымен бекітілген, 2019 жылғы 24 </a:t>
            </a:r>
            <a:r>
              <a:rPr b="0" lang="kk-KZ" sz="1800" spc="-1" strike="noStrike">
                <a:solidFill>
                  <a:srgbClr val="000000"/>
                </a:solidFill>
                <a:latin typeface="Arial"/>
              </a:rPr>
              <a:t>желтоқсандағы</a:t>
            </a:r>
            <a:r>
              <a:rPr b="0" lang="ru-RU" sz="1800" spc="-1" strike="noStrike">
                <a:solidFill>
                  <a:srgbClr val="000000"/>
                </a:solidFill>
                <a:latin typeface="Arial"/>
              </a:rPr>
              <a:t> № 347 қайта бекітілген.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C:\Users\HP\Desktop\57741_1.jpeg"/>
          <p:cNvPicPr/>
          <p:nvPr/>
        </p:nvPicPr>
        <p:blipFill>
          <a:blip r:embed="rId1"/>
          <a:stretch/>
        </p:blipFill>
        <p:spPr>
          <a:xfrm>
            <a:off x="5791320" y="5151600"/>
            <a:ext cx="1163520" cy="1461960"/>
          </a:xfrm>
          <a:prstGeom prst="rect">
            <a:avLst/>
          </a:prstGeom>
          <a:ln w="0">
            <a:noFill/>
          </a:ln>
        </p:spPr>
      </p:pic>
      <p:pic>
        <p:nvPicPr>
          <p:cNvPr id="111" name="Picture 4" descr="C:\Users\HP\Desktop\3293675.jpg"/>
          <p:cNvPicPr/>
          <p:nvPr/>
        </p:nvPicPr>
        <p:blipFill>
          <a:blip r:embed="rId2"/>
          <a:stretch/>
        </p:blipFill>
        <p:spPr>
          <a:xfrm>
            <a:off x="1395360" y="5224320"/>
            <a:ext cx="2470320" cy="1341720"/>
          </a:xfrm>
          <a:prstGeom prst="rect">
            <a:avLst/>
          </a:prstGeom>
          <a:ln w="0">
            <a:noFill/>
          </a:ln>
        </p:spPr>
      </p:pic>
      <p:sp>
        <p:nvSpPr>
          <p:cNvPr id="112" name="Овал 6"/>
          <p:cNvSpPr/>
          <p:nvPr/>
        </p:nvSpPr>
        <p:spPr>
          <a:xfrm>
            <a:off x="2771640" y="1125360"/>
            <a:ext cx="3240360" cy="1224000"/>
          </a:xfrm>
          <a:prstGeom prst="ellipse">
            <a:avLst/>
          </a:prstGeom>
          <a:solidFill>
            <a:srgbClr val="00b050"/>
          </a:solidFill>
          <a:ln w="9360">
            <a:solidFill>
              <a:srgbClr val="00b05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72 білім беру ұйымдары</a:t>
            </a:r>
            <a:endParaRPr b="0" lang="en-US" sz="1600" spc="-1" strike="noStrike">
              <a:solidFill>
                <a:srgbClr val="000000"/>
              </a:solidFill>
              <a:latin typeface="Arial"/>
            </a:endParaRPr>
          </a:p>
        </p:txBody>
      </p:sp>
      <p:sp>
        <p:nvSpPr>
          <p:cNvPr id="113" name="Стрелка вниз 7"/>
          <p:cNvSpPr/>
          <p:nvPr/>
        </p:nvSpPr>
        <p:spPr>
          <a:xfrm rot="3408000">
            <a:off x="2542680" y="1718280"/>
            <a:ext cx="433080" cy="720720"/>
          </a:xfrm>
          <a:prstGeom prst="downArrow">
            <a:avLst>
              <a:gd name="adj1" fmla="val 50000"/>
              <a:gd name="adj2" fmla="val 82947"/>
            </a:avLst>
          </a:prstGeom>
          <a:solidFill>
            <a:srgbClr val="00b050"/>
          </a:solidFill>
          <a:ln w="9360">
            <a:solidFill>
              <a:srgbClr val="00b050"/>
            </a:solidFill>
            <a:round/>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Стрелка вниз 8"/>
          <p:cNvSpPr/>
          <p:nvPr/>
        </p:nvSpPr>
        <p:spPr>
          <a:xfrm rot="18737400">
            <a:off x="6280200" y="1885680"/>
            <a:ext cx="431640" cy="720720"/>
          </a:xfrm>
          <a:prstGeom prst="downArrow">
            <a:avLst>
              <a:gd name="adj1" fmla="val 50000"/>
              <a:gd name="adj2" fmla="val 83223"/>
            </a:avLst>
          </a:prstGeom>
          <a:solidFill>
            <a:srgbClr val="00b050"/>
          </a:solidFill>
          <a:ln w="9360">
            <a:solidFill>
              <a:srgbClr val="00b050"/>
            </a:solidFill>
            <a:round/>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Вертикальный свиток 9"/>
          <p:cNvSpPr/>
          <p:nvPr/>
        </p:nvSpPr>
        <p:spPr>
          <a:xfrm>
            <a:off x="179280" y="2349360"/>
            <a:ext cx="2521080" cy="2519640"/>
          </a:xfrm>
          <a:prstGeom prst="verticalScroll">
            <a:avLst>
              <a:gd name="adj" fmla="val 12500"/>
            </a:avLst>
          </a:prstGeom>
          <a:blipFill rotWithShape="0">
            <a:blip r:embed="rId3"/>
            <a:srcRect/>
            <a:stretch/>
          </a:blip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Мектепке дейінгі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мекемелер:</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29  жалпы білім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беретін  мектептерде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29-шағын орталықтар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endParaRPr b="0" lang="en-US" sz="1300" spc="-1" strike="noStrike">
              <a:solidFill>
                <a:srgbClr val="000000"/>
              </a:solidFill>
              <a:latin typeface="Arial"/>
            </a:endParaRPr>
          </a:p>
        </p:txBody>
      </p:sp>
      <p:sp>
        <p:nvSpPr>
          <p:cNvPr id="116" name="Вертикальный свиток 10"/>
          <p:cNvSpPr/>
          <p:nvPr/>
        </p:nvSpPr>
        <p:spPr>
          <a:xfrm>
            <a:off x="6551640" y="2133720"/>
            <a:ext cx="2592360" cy="2663640"/>
          </a:xfrm>
          <a:prstGeom prst="verticalScroll">
            <a:avLst>
              <a:gd name="adj" fmla="val 12500"/>
            </a:avLst>
          </a:prstGeom>
          <a:blipFill rotWithShape="0">
            <a:blip r:embed="rId4"/>
            <a:srcRect/>
            <a:stretch/>
          </a:blip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ктептен тыс мекемелер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1 –, балалар мен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сөспірімдер орталығ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жас туристер станцияс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1- музыка мектеб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
        <p:nvSpPr>
          <p:cNvPr id="117" name="Стрелка вниз 11"/>
          <p:cNvSpPr/>
          <p:nvPr/>
        </p:nvSpPr>
        <p:spPr>
          <a:xfrm>
            <a:off x="4500720" y="2349360"/>
            <a:ext cx="431640" cy="574920"/>
          </a:xfrm>
          <a:prstGeom prst="downArrow">
            <a:avLst>
              <a:gd name="adj1" fmla="val 41185"/>
              <a:gd name="adj2" fmla="val 49948"/>
            </a:avLst>
          </a:prstGeom>
          <a:solidFill>
            <a:srgbClr val="00b050"/>
          </a:solidFill>
          <a:ln w="9360">
            <a:solidFill>
              <a:srgbClr val="00b050"/>
            </a:solidFill>
            <a:round/>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Вертикальный свиток 12"/>
          <p:cNvSpPr/>
          <p:nvPr/>
        </p:nvSpPr>
        <p:spPr>
          <a:xfrm>
            <a:off x="3708360" y="2997360"/>
            <a:ext cx="2232000" cy="2087280"/>
          </a:xfrm>
          <a:prstGeom prst="verticalScroll">
            <a:avLst>
              <a:gd name="adj" fmla="val 12500"/>
            </a:avLst>
          </a:prstGeom>
          <a:blipFill rotWithShape="0">
            <a:blip r:embed="rId5"/>
            <a:srcRect/>
            <a:stretch/>
          </a:blip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астауыш, негізгі  орт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және жалпы орта білі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еру мектепте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 </a:t>
            </a:r>
            <a:r>
              <a:rPr b="0" lang="ru-RU" sz="1200" spc="-1" strike="noStrike">
                <a:solidFill>
                  <a:srgbClr val="000000"/>
                </a:solidFill>
                <a:latin typeface="Arial"/>
              </a:rPr>
              <a:t>6 – бастауы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8 – негізгі  орт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6 –жалпы орт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Горизонтальный свиток 13"/>
          <p:cNvSpPr/>
          <p:nvPr/>
        </p:nvSpPr>
        <p:spPr>
          <a:xfrm>
            <a:off x="826920" y="404640"/>
            <a:ext cx="8066160" cy="792360"/>
          </a:xfrm>
          <a:prstGeom prst="horizontalScroll">
            <a:avLst>
              <a:gd name="adj" fmla="val 12500"/>
            </a:avLst>
          </a:prstGeom>
          <a:blipFill rotWithShape="0">
            <a:blip r:embed="rId6"/>
            <a:srcRect/>
            <a:stretch/>
          </a:blip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2019 жылғы аудан бюджетінен қаржыландырылатын</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білім беру ұйымдарының желісі </a:t>
            </a:r>
            <a:br>
              <a:rPr sz="1400"/>
            </a:br>
            <a:endParaRPr b="0" lang="en-US" sz="1400" spc="-1" strike="noStrike">
              <a:solidFill>
                <a:srgbClr val="000000"/>
              </a:solidFill>
              <a:latin typeface="Arial"/>
            </a:endParaRPr>
          </a:p>
        </p:txBody>
      </p:sp>
      <p:sp>
        <p:nvSpPr>
          <p:cNvPr id="120" name="Прямоугольник 14"/>
          <p:cNvSpPr/>
          <p:nvPr/>
        </p:nvSpPr>
        <p:spPr>
          <a:xfrm>
            <a:off x="7241400" y="2133720"/>
            <a:ext cx="93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ұйым</a:t>
            </a:r>
            <a:endParaRPr b="0" lang="en-US" sz="1800" spc="-1" strike="noStrike">
              <a:solidFill>
                <a:srgbClr val="000000"/>
              </a:solidFill>
              <a:latin typeface="Arial"/>
            </a:endParaRPr>
          </a:p>
        </p:txBody>
      </p:sp>
      <p:sp>
        <p:nvSpPr>
          <p:cNvPr id="121" name="Прямоугольник 15"/>
          <p:cNvSpPr/>
          <p:nvPr/>
        </p:nvSpPr>
        <p:spPr>
          <a:xfrm>
            <a:off x="4140360" y="2924280"/>
            <a:ext cx="1554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0 ұйым</a:t>
            </a:r>
            <a:endParaRPr b="0" lang="en-US" sz="1400" spc="-1" strike="noStrike">
              <a:solidFill>
                <a:srgbClr val="000000"/>
              </a:solidFill>
              <a:latin typeface="Arial"/>
            </a:endParaRPr>
          </a:p>
        </p:txBody>
      </p:sp>
      <p:sp>
        <p:nvSpPr>
          <p:cNvPr id="122" name="Прямоугольник 16"/>
          <p:cNvSpPr/>
          <p:nvPr/>
        </p:nvSpPr>
        <p:spPr>
          <a:xfrm>
            <a:off x="833400" y="2349360"/>
            <a:ext cx="106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9 ұйы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13880" y="571680"/>
            <a:ext cx="8075880" cy="35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00ff"/>
                </a:solidFill>
                <a:latin typeface="Arial"/>
              </a:rPr>
              <a:t>Білім беруге арналған бюджет шығыстары, мың. теңге</a:t>
            </a:r>
            <a:br>
              <a:rPr sz="2800"/>
            </a:br>
            <a:endParaRPr b="0" lang="en-US" sz="2000" spc="-1" strike="noStrike">
              <a:solidFill>
                <a:srgbClr val="000000"/>
              </a:solidFill>
              <a:latin typeface="Arial"/>
            </a:endParaRPr>
          </a:p>
        </p:txBody>
      </p:sp>
      <p:graphicFrame>
        <p:nvGraphicFramePr>
          <p:cNvPr id="124" name=""/>
          <p:cNvGraphicFramePr/>
          <p:nvPr/>
        </p:nvGraphicFramePr>
        <p:xfrm>
          <a:off x="179280" y="928800"/>
          <a:ext cx="8750520" cy="5624280"/>
        </p:xfrm>
        <a:graphic>
          <a:graphicData uri="http://schemas.openxmlformats.org/drawingml/2006/table">
            <a:tbl>
              <a:tblPr/>
              <a:tblGrid>
                <a:gridCol w="5832720"/>
                <a:gridCol w="1008000"/>
                <a:gridCol w="936720"/>
                <a:gridCol w="973080"/>
              </a:tblGrid>
              <a:tr h="4284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тауы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19 жыл</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20 жыл</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21 жыл</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28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0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Барлығы:</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803994,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068934,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187125,0</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22840">
                <a:tc>
                  <a:txBody>
                    <a:bodyPr lIns="9360" rIns="9360" tIns="9360" bIns="0" anchor="b">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Arial"/>
                        </a:rPr>
                        <a:t>оның ішінде:</a:t>
                      </a:r>
                      <a:endParaRPr b="0" lang="en-US" sz="9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449280">
                <a:tc>
                  <a:txBody>
                    <a:bodyPr lIns="5760" rIns="5760" tIns="576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Жергілікті деңгейде білім беру саласындағы мемлекеттік саясатты іске асыру жөніндегі қызметтер шығыстарына</a:t>
                      </a:r>
                      <a:endParaRPr b="0" lang="en-US" sz="12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14394,0</a:t>
                      </a:r>
                      <a:endParaRPr b="0" lang="en-US" sz="12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16983,0</a:t>
                      </a:r>
                      <a:endParaRPr b="0" lang="en-US" sz="12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16983,0</a:t>
                      </a:r>
                      <a:endParaRPr b="0" lang="en-US" sz="1200" spc="-1" strike="noStrike">
                        <a:solidFill>
                          <a:srgbClr val="000000"/>
                        </a:solidFill>
                        <a:latin typeface="Arial"/>
                      </a:endParaRPr>
                    </a:p>
                  </a:txBody>
                  <a:tcPr anchor="t" marL="9360" marR="9360">
                    <a:lnL w="2880">
                      <a:solidFill>
                        <a:srgbClr val="000000"/>
                      </a:solidFill>
                    </a:lnL>
                    <a:lnR w="2880">
                      <a:solidFill>
                        <a:srgbClr val="000000"/>
                      </a:solidFill>
                    </a:lnR>
                    <a:lnT w="2880">
                      <a:solidFill>
                        <a:srgbClr val="000000"/>
                      </a:solidFill>
                    </a:lnT>
                    <a:lnB w="2880">
                      <a:solidFill>
                        <a:srgbClr val="000000"/>
                      </a:solidFill>
                    </a:lnB>
                    <a:noFill/>
                  </a:tcPr>
                </a:tc>
              </a:tr>
              <a:tr h="228600">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Жалпы білім беруге</a:t>
                      </a:r>
                      <a:endParaRPr b="0" lang="en-US" sz="12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3384234,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2486189,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2486189,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520560">
                <a:tc>
                  <a:txBody>
                    <a:bodyPr lIns="9360" rIns="9360" tIns="936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Ауданның (облыстық маңызы бар қаланың) мемлекеттік білім беру мекемелер үшін оқулықтар мен оқу -әдістемелік кешендерді сатып алу және жеткізілуіне</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84348,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63882,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63882,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28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Балаларға қосымша білім беруге</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116986,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99510,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99510,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602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Мемлекеттік органның күрделі шығыстарына</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1116,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1116,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1116,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Жетім баланы (жетім балаларды) және ата-аналарының қамқорынсыз қалған баланы (балаларды) күтіп-ұстауға қамқоршыларға (қорғаншыларға) ай сайынға ақшалай қаражат  төлеміне </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9677,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15018,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15018,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124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Патронат тәрбиешілерге берілген баланы (балаларды) асырап бағуға</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5089,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2742,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2742,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Жетім балаларды және ата-аналарының қамқорынсыз қалған, отбасылық үлгідегі  балалар үйлері мен асыраушы отбасыларындағы балаларды мемлекеттік қолдауға</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5975,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5585,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5585,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514440">
                <a:tc>
                  <a:txBody>
                    <a:bodyPr lIns="9360" rIns="9360" tIns="936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Ведомстволық бағыныстағы мемлекеттік мекемелерінің және ұйымдарының күрделі шығыстарына</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180255,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377909,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ea typeface="Times New Roman"/>
                        </a:rPr>
                        <a:t>496100,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4240">
                <a:tc>
                  <a:txBody>
                    <a:bodyPr lIns="9360" rIns="9360" tIns="936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ргілікті бюджеттерден берілетін ағымдағы трансферттер</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840,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513000">
                <a:tc>
                  <a:txBody>
                    <a:bodyPr lIns="9360" rIns="9360" tIns="936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Arial"/>
                        </a:rPr>
                        <a:t>Резервінің есебінен іс-шаралар өткізуге арналған мемлекеттік басқарудың басқа деңгейлеріне берілетін трансферттер</a:t>
                      </a:r>
                      <a:endParaRPr b="0" lang="en-US" sz="12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1080,0</a:t>
                      </a:r>
                      <a:endParaRPr b="0" lang="en-US" sz="1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936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26560" y="764640"/>
            <a:ext cx="831708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еспубликалық бюджеттен </a:t>
            </a:r>
            <a:br>
              <a:rPr sz="2000"/>
            </a:br>
            <a:r>
              <a:rPr b="1" lang="ru-RU" sz="2000" spc="-1" strike="noStrike">
                <a:solidFill>
                  <a:srgbClr val="ff0000"/>
                </a:solidFill>
                <a:latin typeface="Arial"/>
              </a:rPr>
              <a:t>нысаналы трансферттер, мың. теңге </a:t>
            </a:r>
            <a:br>
              <a:rPr sz="2000"/>
            </a:br>
            <a:br>
              <a:rPr sz="2000"/>
            </a:br>
            <a:endParaRPr b="0" lang="en-US" sz="2000" spc="-1" strike="noStrike">
              <a:solidFill>
                <a:srgbClr val="000000"/>
              </a:solidFill>
              <a:latin typeface="Arial"/>
            </a:endParaRPr>
          </a:p>
        </p:txBody>
      </p:sp>
      <p:graphicFrame>
        <p:nvGraphicFramePr>
          <p:cNvPr id="126" name=""/>
          <p:cNvGraphicFramePr/>
          <p:nvPr/>
        </p:nvGraphicFramePr>
        <p:xfrm>
          <a:off x="611280" y="981000"/>
          <a:ext cx="8175600" cy="5799240"/>
        </p:xfrm>
        <a:graphic>
          <a:graphicData uri="http://schemas.openxmlformats.org/drawingml/2006/table">
            <a:tbl>
              <a:tblPr/>
              <a:tblGrid>
                <a:gridCol w="7200720"/>
                <a:gridCol w="974880"/>
              </a:tblGrid>
              <a:tr h="297000">
                <a:tc>
                  <a:txBody>
                    <a:bodyPr lIns="8640" rIns="8640" tIns="86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Атауы </a:t>
                      </a:r>
                      <a:endParaRPr b="0" lang="en-US" sz="15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2019 жыл</a:t>
                      </a:r>
                      <a:endParaRPr b="0" lang="en-US" sz="15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r>
              <a:tr h="1778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Барлығы:</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878635,0</a:t>
                      </a:r>
                      <a:endParaRPr b="0" lang="en-US" sz="11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r>
              <a:tr h="237240">
                <a:tc>
                  <a:txBody>
                    <a:bodyPr lIns="9360" rIns="9360" tIns="9360" bIns="0" anchor="b">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Arial"/>
                        </a:rPr>
                        <a:t>оның ішінде:</a:t>
                      </a:r>
                      <a:endParaRPr b="0" lang="en-US" sz="9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640" marR="8640">
                    <a:lnL w="2880">
                      <a:solidFill>
                        <a:srgbClr val="000000"/>
                      </a:solidFill>
                    </a:lnL>
                    <a:lnR w="2880">
                      <a:solidFill>
                        <a:srgbClr val="000000"/>
                      </a:solidFill>
                    </a:lnR>
                    <a:lnT w="2880">
                      <a:solidFill>
                        <a:srgbClr val="000000"/>
                      </a:solidFill>
                    </a:lnT>
                    <a:lnB w="2880">
                      <a:solidFill>
                        <a:srgbClr val="000000"/>
                      </a:solidFill>
                    </a:lnB>
                    <a:noFill/>
                  </a:tcPr>
                </a:tc>
              </a:tr>
              <a:tr h="61884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удандардың (облыстық маңызы бар қалалардың) бюджеттеріне тілдік курстар бойынша тағылымдамадан өткен мұғалімдерге қосымша ақы төлеуге және негізгі қызметкердің оқу кезеңіне ауыстырылғаны үшін мұғалімдерге қосымша ақы төлеуге берілетін ағымдағы нысаналы трансферттер. (Тілдік курстар бойынша тағылымдамадан өткен мұғалімдерге қосымша ақы шығыстары)</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4362,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61812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Arial"/>
                        </a:rPr>
                        <a:t>Аудандардың (облыстық маңызы бар қалалардың) бюджеттеріне тілдік курстар бойынша тағылымдамадан өткен мұғалімдерге қосымша ақы төлеуге және негізгі қызметкердің оқу кезеңіне ауыстырылғаны үшін мұғалімдерге қосымша ақы төлеуге берілетін ағымдағы нысаналы трансферттер. </a:t>
                      </a:r>
                      <a:r>
                        <a:rPr b="0" lang="ru-RU" sz="1000" spc="-1" strike="noStrike">
                          <a:solidFill>
                            <a:srgbClr val="000000"/>
                          </a:solidFill>
                          <a:latin typeface="Arial"/>
                        </a:rPr>
                        <a:t>(</a:t>
                      </a:r>
                      <a:r>
                        <a:rPr b="0" lang="kk-KZ" sz="1000" spc="-1" strike="noStrike">
                          <a:solidFill>
                            <a:srgbClr val="000000"/>
                          </a:solidFill>
                          <a:latin typeface="Arial"/>
                        </a:rPr>
                        <a:t>Оқу кезеңінде негізгі қызметкерді ауыстырғаны үшін мұғалімдерге қосымша ақы шығыстары).</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282,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61884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удандық (облыстық маңызы бар қалалардың) бюджеттер</a:t>
                      </a:r>
                      <a:r>
                        <a:rPr b="0" lang="kk-KZ" sz="1000" spc="-1" strike="noStrike">
                          <a:solidFill>
                            <a:srgbClr val="000000"/>
                          </a:solidFill>
                          <a:latin typeface="Arial"/>
                        </a:rPr>
                        <a:t>іне</a:t>
                      </a:r>
                      <a:r>
                        <a:rPr b="0" lang="ru-RU" sz="1000" spc="-1" strike="noStrike">
                          <a:solidFill>
                            <a:srgbClr val="000000"/>
                          </a:solidFill>
                          <a:latin typeface="Arial"/>
                        </a:rPr>
                        <a:t> білім берудің жаңартылған мазмұны бойынша бастауыш, негізгі және жалпы орта білім берудің оқу бағдарламаларын іске асыратын білім беру ұйымдарының мұғалімдеріне қосымша ақы төлеуге және жергілікті бюджеттердің қаражаты есебінен осы бағыт бойынша төленген сомаларды өтеуге берілетін ағымдағы нысаналы трансферттер</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34520,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48060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удандық (облыстық маңызы бар қалалардың) бюджеттеріне ұлттық біліктілік тестінен өткен және бастауыш, негізгі және жалпы орта білім берудің білім беру бағдарламаларын іске асыратын мұғалімдерге педагогикалық шеберлік біліктілігі үшін қосымша ақы төлеуге берілетін ағымдағы нысаналы трансферттер</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08341,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48060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удандық (облыстық маңызы бар қалалардың) бюджеттеріне мектептердің педагог-психологтарына лауазымдық жалақы мөлшерін ұлғайтуға және педагогикалық шеберлік біліктілігі үшін берілетін ағымдағы нысаналы трансферттер. (Мектептердің педагог-психологтарына лауазымдық жалақы мөлшерін ұлғайтуға арналған шығыстар)</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8292,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46584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удандық (облыстық маңызы бар қалалардың) бюджеттеріне мектептердің педагог-психологтарына лауазымдық жалақы мөлшерін ұлғайтуға және педагогикалық шеберлік біліктілігі үшін берілетін ағымдағы нысаналы трансферттер. (Мектептердің педагог-психологтарына педагогикалық шеберлік біліктілігіне арналған шығыстар).</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542,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61884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удандық (облыстық маңызы бар қалалар) бюджеттеріне ең төменгі жалақы мөлшерінің өзгеруіне байланысты азаматтық қызметшілердің, мемлекеттік бюджет қаражаты есебінен ұсталатын ұйымдардың қызметкерлерінің, қазыналық кәсіпорындар қызметкерлерінің жекелеген санаттарының жалақысын арттыруға берілетін ағымдағы нысаналы трансферттер (1 </a:t>
                      </a:r>
                      <a:r>
                        <a:rPr b="0" lang="kk-KZ" sz="1000" spc="-1" strike="noStrike">
                          <a:solidFill>
                            <a:srgbClr val="000000"/>
                          </a:solidFill>
                          <a:latin typeface="Arial"/>
                        </a:rPr>
                        <a:t>қантар 2019 ж.)</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26993,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46584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удандық (облыстық маңызы бар қалалардың) бюджеттер</a:t>
                      </a:r>
                      <a:r>
                        <a:rPr b="0" lang="kk-KZ" sz="1000" spc="-1" strike="noStrike">
                          <a:solidFill>
                            <a:srgbClr val="000000"/>
                          </a:solidFill>
                          <a:latin typeface="Arial"/>
                        </a:rPr>
                        <a:t>іне</a:t>
                      </a:r>
                      <a:r>
                        <a:rPr b="0" lang="ru-RU" sz="1000" spc="-1" strike="noStrike">
                          <a:solidFill>
                            <a:srgbClr val="000000"/>
                          </a:solidFill>
                          <a:latin typeface="Arial"/>
                        </a:rPr>
                        <a:t> азаматтық қызметшілердің, мемлекеттік бюджет қаражаты есебінен ұсталатын ұйымдар қызметкерлерінің, қазыналық кәсіпорындар қызметкерлерінің жалақысын 1 маусым 2019 жылдан 30% - ға дейін  арттыруға берілетін ағымдағы нысаналы трансферттер</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64838,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22392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Заңнаманың өзгеруіне байланысты төмен тұрған бюджеттердің шығындарын өтеу</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27957,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r h="497520">
                <a:tc>
                  <a:txBody>
                    <a:bodyPr lIns="8640" rIns="8640" tIns="8640" bIns="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Аудандық (облыстық маңызы бар қалалар) бюджеттеріне мемлекеттік қызметшілерге еңбекақы төлеудің жаңа жүйесін енгізуге берілетін ағымдағы нысаналы трансферттер</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508,0</a:t>
                      </a:r>
                      <a:endParaRPr b="0" lang="en-US" sz="10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826920" y="1857240"/>
          <a:ext cx="7959960" cy="4673880"/>
        </p:xfrm>
        <a:graphic>
          <a:graphicData uri="http://schemas.openxmlformats.org/drawingml/2006/table">
            <a:tbl>
              <a:tblPr/>
              <a:tblGrid>
                <a:gridCol w="6481800"/>
                <a:gridCol w="1478160"/>
              </a:tblGrid>
              <a:tr h="400320">
                <a:tc>
                  <a:txBody>
                    <a:bodyPr lIns="7920" rIns="7920" tIns="792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тауы </a:t>
                      </a:r>
                      <a:endParaRPr b="0" lang="en-US" sz="16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019 жыл</a:t>
                      </a:r>
                      <a:endParaRPr b="0" lang="en-US" sz="16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noFill/>
                  </a:tcPr>
                </a:tc>
              </a:tr>
              <a:tr h="307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Барлығы:</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64603,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51640">
                <a:tc>
                  <a:txBody>
                    <a:bodyPr lIns="9360" rIns="9360" tIns="9360" bIns="0" anchor="b">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900" spc="-1" strike="noStrike">
                          <a:solidFill>
                            <a:srgbClr val="000000"/>
                          </a:solidFill>
                          <a:latin typeface="Arial"/>
                        </a:rPr>
                        <a:t>оның ішінде:</a:t>
                      </a:r>
                      <a:endParaRPr b="0" lang="en-US" sz="9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57280">
                <a:tc>
                  <a:txBody>
                    <a:bodyPr lIns="7920" rIns="7920" tIns="792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ьютерлік техниканы сатып алу   үшін (компьютерлер, ноутбуктер, принтерлер)</a:t>
                      </a:r>
                      <a:endParaRPr b="0" lang="en-US" sz="18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6392,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99960">
                <a:tc>
                  <a:txBody>
                    <a:bodyPr lIns="7920" rIns="7920" tIns="792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ұрмыстық техника сатып алу  үшін</a:t>
                      </a:r>
                      <a:endParaRPr b="0" lang="en-US" sz="18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1,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57280">
                <a:tc>
                  <a:txBody>
                    <a:bodyPr lIns="7920" rIns="7920" tIns="792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ктептерді, шағын орталықтарды жиһазбен қамтамасыз ету</a:t>
                      </a:r>
                      <a:endParaRPr b="0" lang="en-US" sz="18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902,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41360">
                <a:tc>
                  <a:txBody>
                    <a:bodyPr lIns="7920" rIns="7920" tIns="792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уристік үйірмелер үшін жабдықтар сатып алу  үшін</a:t>
                      </a:r>
                      <a:endParaRPr b="0" lang="en-US" sz="18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078,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99960">
                <a:tc>
                  <a:txBody>
                    <a:bodyPr lIns="7920" rIns="7920" tIns="792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рт жабдықтарын сатып алу  үшін</a:t>
                      </a:r>
                      <a:endParaRPr b="0" lang="en-US" sz="18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5120,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57280">
                <a:tc>
                  <a:txBody>
                    <a:bodyPr lIns="7920" rIns="7920" tIns="792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азандықтарды, қазандықтарға арналған сорғыларды сатып алу  үшін</a:t>
                      </a:r>
                      <a:endParaRPr b="0" lang="en-US" sz="18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9689,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99960">
                <a:tc>
                  <a:txBody>
                    <a:bodyPr lIns="7920" rIns="7920" tIns="792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рт жабдықтарын сатып алу  үшін</a:t>
                      </a:r>
                      <a:endParaRPr b="0" lang="en-US" sz="18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36993,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01040">
                <a:tc>
                  <a:txBody>
                    <a:bodyPr lIns="7920" rIns="7920" tIns="792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қулықтар мен оқу-әдістемелік кешендерді сатып алу үшін </a:t>
                      </a:r>
                      <a:endParaRPr b="0" lang="en-US" sz="1800" spc="-1" strike="noStrike">
                        <a:solidFill>
                          <a:srgbClr val="000000"/>
                        </a:solidFill>
                        <a:latin typeface="Arial"/>
                      </a:endParaRPr>
                    </a:p>
                  </a:txBody>
                  <a:tcPr anchor="t"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920" rIns="7920" tIns="792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4348,0</a:t>
                      </a:r>
                      <a:endParaRPr b="0" lang="en-US" sz="16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128" name="Заголовок 1"/>
          <p:cNvSpPr/>
          <p:nvPr/>
        </p:nvSpPr>
        <p:spPr>
          <a:xfrm>
            <a:off x="500040" y="714240"/>
            <a:ext cx="8229600" cy="100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Күрделі сипаттағы шығыстар, мың теңг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03:51:47Z</dcterms:created>
  <dc:creator>Назарчук</dc:creator>
  <dc:description/>
  <dc:language>en-US</dc:language>
  <cp:lastModifiedBy>Пользователь Windows</cp:lastModifiedBy>
  <cp:lastPrinted>2018-01-10T05:45:16Z</cp:lastPrinted>
  <dcterms:modified xsi:type="dcterms:W3CDTF">2019-12-31T03:58:10Z</dcterms:modified>
  <cp:revision>921</cp:revision>
  <dc:subject/>
  <dc:title>ГРАЖДАНСКИЙ БЮДЖЕТ</dc:title>
</cp:coreProperties>
</file>