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F47D-C440-4CB6-9C32-F7541160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16A3-19FF-4809-96AE-7B33416E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F4A5-066D-4368-9AD1-1E41E831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EE7A-A28C-4B60-8191-C811FD16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2FD9-7150-450E-8237-F5168803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B22E-8EEA-4C85-8B73-ED5F05D0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89A7-7563-4166-BB5E-A87D8032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87E0-A71D-421B-A491-AFA73602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AD23-A9C5-4E63-955B-9BF4F5E3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DA01-0B1D-4E95-9329-68B1E3B8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BCB0-D25D-4521-A208-87420739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797D-4CFF-4B5A-A8BB-46F12E4E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9886-0AB8-4F19-A73F-FC24DC74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BC33-E59C-47BE-88C8-092A5E3A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6429-56DA-43FC-A7A6-1AF51DCD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F1E5-D6C5-48B8-BB07-CABE989CF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1925-0B4E-469E-9781-5BC3C118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825FF-69A1-4DDF-81CD-8D6A86FB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F0D3-E389-414D-9634-96E7A120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D800-B7E8-4A5C-B594-40DDA700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58B7C-5519-4283-A975-D32585A1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B452-D015-47B2-A9F5-DC4FFBCA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7C90-3131-4C84-906B-81F51562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2AFE5-13E3-4814-8CD8-78CFB38B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373E-4EB2-4FBC-87B3-4B2E0A4225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A8AC-47D5-4F7D-BC6E-7BD79F4BA5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1700280"/>
            <a:ext cx="60912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Arial"/>
              </a:rPr>
              <a:t>ГРАЖДАНСКИЙ БЮДЖЕ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87640" y="4292640"/>
            <a:ext cx="601992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 2019 -2021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Уважаемые посетители сай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0560" y="1499760"/>
            <a:ext cx="853596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шему вниманию представлен гражданский бюджет отдела образования Каркаралинского района на  2019-2021 годы, который содержит информацию об основных показателях бюджета отдела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юджет отдела образования переутвержде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лением акимата Каркаралинского района от 23 декабря 2019 года №410 «О внесении изменений в постановление акимата Каркаралинского района от 27 декабря 2018 года №442  «О реализации решения ХХ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ссии Каркаралинского районного маслихата от 26 декабря 2018 года №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37/308 «О районном бюджете на 2019-2021 год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юджетные программы отдела образования утверждены приказом руководителя от  16 декабря 2018 года № 507, переутверждены от 24 декабря 2019 года №34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HP\Desktop\57741_1.jpeg"/>
          <p:cNvPicPr/>
          <p:nvPr/>
        </p:nvPicPr>
        <p:blipFill>
          <a:blip r:embed="rId1"/>
          <a:stretch/>
        </p:blipFill>
        <p:spPr>
          <a:xfrm>
            <a:off x="5791320" y="5151600"/>
            <a:ext cx="1163520" cy="1461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HP\Desktop\3293675.jpg"/>
          <p:cNvPicPr/>
          <p:nvPr/>
        </p:nvPicPr>
        <p:blipFill>
          <a:blip r:embed="rId2"/>
          <a:stretch/>
        </p:blipFill>
        <p:spPr>
          <a:xfrm>
            <a:off x="1395360" y="5224320"/>
            <a:ext cx="2470320" cy="1341720"/>
          </a:xfrm>
          <a:prstGeom prst="rect">
            <a:avLst/>
          </a:prstGeom>
          <a:ln w="0">
            <a:noFill/>
          </a:ln>
        </p:spPr>
      </p:pic>
      <p:sp>
        <p:nvSpPr>
          <p:cNvPr id="112" name="Овал 6"/>
          <p:cNvSpPr/>
          <p:nvPr/>
        </p:nvSpPr>
        <p:spPr>
          <a:xfrm>
            <a:off x="2771640" y="981000"/>
            <a:ext cx="3240360" cy="1224000"/>
          </a:xfrm>
          <a:prstGeom prst="ellipse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2 организ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низ 7"/>
          <p:cNvSpPr/>
          <p:nvPr/>
        </p:nvSpPr>
        <p:spPr>
          <a:xfrm rot="3408000">
            <a:off x="2542680" y="1718280"/>
            <a:ext cx="433080" cy="720720"/>
          </a:xfrm>
          <a:prstGeom prst="downArrow">
            <a:avLst>
              <a:gd name="adj1" fmla="val 50000"/>
              <a:gd name="adj2" fmla="val 82947"/>
            </a:avLst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8"/>
          <p:cNvSpPr/>
          <p:nvPr/>
        </p:nvSpPr>
        <p:spPr>
          <a:xfrm rot="18737400">
            <a:off x="6280200" y="1885680"/>
            <a:ext cx="431640" cy="720720"/>
          </a:xfrm>
          <a:prstGeom prst="downArrow">
            <a:avLst>
              <a:gd name="adj1" fmla="val 50000"/>
              <a:gd name="adj2" fmla="val 83223"/>
            </a:avLst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Вертикальный свиток 9"/>
          <p:cNvSpPr/>
          <p:nvPr/>
        </p:nvSpPr>
        <p:spPr>
          <a:xfrm>
            <a:off x="179280" y="2349360"/>
            <a:ext cx="2521080" cy="251964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Дошкольны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чреждения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29 –мини-цент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ри 29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бщеобразовательн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школа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Вертикальный свиток 10"/>
          <p:cNvSpPr/>
          <p:nvPr/>
        </p:nvSpPr>
        <p:spPr>
          <a:xfrm>
            <a:off x="6551640" y="2133720"/>
            <a:ext cx="2592360" cy="266364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ко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центр дете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ош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станция ю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 музыкаль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низ 11"/>
          <p:cNvSpPr/>
          <p:nvPr/>
        </p:nvSpPr>
        <p:spPr>
          <a:xfrm>
            <a:off x="4500720" y="2349360"/>
            <a:ext cx="431640" cy="574920"/>
          </a:xfrm>
          <a:prstGeom prst="downArrow">
            <a:avLst>
              <a:gd name="adj1" fmla="val 41185"/>
              <a:gd name="adj2" fmla="val 49948"/>
            </a:avLst>
          </a:prstGeom>
          <a:solidFill>
            <a:srgbClr val="00b050"/>
          </a:solidFill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Вертикальный свиток 12"/>
          <p:cNvSpPr/>
          <p:nvPr/>
        </p:nvSpPr>
        <p:spPr>
          <a:xfrm>
            <a:off x="3708360" y="2997360"/>
            <a:ext cx="2232000" cy="208728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ые, основ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е и сред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образова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– нач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– основные сред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 –сред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Горизонтальный свиток 13"/>
          <p:cNvSpPr/>
          <p:nvPr/>
        </p:nvSpPr>
        <p:spPr>
          <a:xfrm>
            <a:off x="684360" y="333360"/>
            <a:ext cx="8208720" cy="792000"/>
          </a:xfrm>
          <a:prstGeom prst="horizont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ть организаций образования, финансируем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бюджета района 2019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4"/>
          <p:cNvSpPr/>
          <p:nvPr/>
        </p:nvSpPr>
        <p:spPr>
          <a:xfrm>
            <a:off x="7242480" y="213372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4140360" y="2924280"/>
            <a:ext cx="1554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0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рганизац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834480" y="234936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9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3880" y="571680"/>
            <a:ext cx="807588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ходы бюджета на образование, тыс. тенг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42960" y="733320"/>
          <a:ext cx="8143920" cy="5645160"/>
        </p:xfrm>
        <a:graphic>
          <a:graphicData uri="http://schemas.openxmlformats.org/drawingml/2006/table">
            <a:tbl>
              <a:tblPr/>
              <a:tblGrid>
                <a:gridCol w="5224320"/>
                <a:gridCol w="1008360"/>
                <a:gridCol w="1009440"/>
                <a:gridCol w="901800"/>
              </a:tblGrid>
              <a:tr h="441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399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6893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71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ги по реализации государственной политики на местном уровне в области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9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9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98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общеобразовательное об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8423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86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861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обретение и доставка учебников, учебно-методических комплексов для государственных учреждений образования района (города районного 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34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8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88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олнительное образование дл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98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5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5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итальные расходы государственного орг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месячную выплату денежных средств опекунам (попечителям) на содержание ребенка-сироты (детей-сирот), и ребенка (детей), оставшегося без попечения род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7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ержание ребенка (детей), переданного патронатным воспитател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дарственную поддержку по содержанию детей-сирот и детей, оставшихся без попечения родителей, в детских домах семейного типа и приемных семь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8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8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итальные расходы подведомственных государственных учреждений и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2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790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6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екущие трансферты из местных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роведение мероприятий за счет резерва местного исполнительного органа на неотложные затр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92000" y="785880"/>
            <a:ext cx="8352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евые трансферты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 республиканского бюджета, тыс. тенг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4360" y="1197000"/>
          <a:ext cx="8001000" cy="5413320"/>
        </p:xfrm>
        <a:graphic>
          <a:graphicData uri="http://schemas.openxmlformats.org/drawingml/2006/table">
            <a:tbl>
              <a:tblPr/>
              <a:tblGrid>
                <a:gridCol w="7000560"/>
                <a:gridCol w="1000440"/>
              </a:tblGrid>
              <a:tr h="2160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63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бюджетам районов (городов областного значения) на доплату учителям, прошедшим стажировку по языковым курсам и на доплату учителям за замещение на период обучения основного сотрудника. (Расходы на доплату учителям, прошедшим стажировку по языковым курсам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6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бюджетам районов (городов областного значения) на доплату учителям, прошедшим стажировку по языковым курсам и на доплату учителям за замещение на период обучения основного сотрудника. (Расходы на доплату учителям за замещение на период обучения основного сотрудник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доплату учителям организаций образования, реализующим учебные программы начального, основного и общего среднего образования по обновленному содержанию образования, и возмещение сумм, выплаченных по данному направлению расходов за счет средств местных бюджет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52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доплату за квалификацию педагогического мастерства учителям, прошедшим национальный квалификационный тест и реализующим образовательные программы начального, основного и общего среднего образ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34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увеличение размеров должностных окладов и за квалификацию педагогического мастерства педагогам-психологам школ. (Расходы на увеличение размеров должностных окладов педагогам-психологам шко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9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увеличение размеров должностных окладов и за квалификацию педагогического мастерства педагогам-психологам школ. (Расходы на квалификацию педагогического мастерства педагогам-психологам шк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повышение заработной платы отдельных категорий гражданских служащих, работников организаций, содержащихся за счет средств государственного бюджета, работников казенных предприятий в связи с изменением размера минимальной заработной платы (с 1 января 2019 год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99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повышение заработной платы гражданских служащих, работников организаций, содержащихся за счет средств государственного бюджета, работников казенных предприятий до 30 % </a:t>
                      </a: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1 июня 2019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83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енсация потерь нижестоящих  бюджетов в связи изменением законодатель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ые текущие трансферты районным (городов областного значения) бюджетам на внедрение новой системы оплаты труда государственных служащ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55640" y="1571760"/>
          <a:ext cx="8031240" cy="4627440"/>
        </p:xfrm>
        <a:graphic>
          <a:graphicData uri="http://schemas.openxmlformats.org/drawingml/2006/table">
            <a:tbl>
              <a:tblPr/>
              <a:tblGrid>
                <a:gridCol w="6553080"/>
                <a:gridCol w="1478160"/>
              </a:tblGrid>
              <a:tr h="426960"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60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3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536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компьютерной техники (компьютеры, ноутбуки, принтер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16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бытовой техни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школ, мини-центров мебел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оборудования для туристических круж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спортивного оборуд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котлов, насосов для котельных шк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8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монт объектов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99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696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е учебников и учебно-методических комплек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34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Заголовок 1"/>
          <p:cNvSpPr/>
          <p:nvPr/>
        </p:nvSpPr>
        <p:spPr>
          <a:xfrm>
            <a:off x="611280" y="47628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ходы капитального характера, тыс. тен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3:51:47Z</dcterms:created>
  <dc:creator>Назарчук</dc:creator>
  <dc:description/>
  <dc:language>en-US</dc:language>
  <cp:lastModifiedBy>Пользователь Windows</cp:lastModifiedBy>
  <cp:lastPrinted>2018-01-10T05:45:16Z</cp:lastPrinted>
  <dcterms:modified xsi:type="dcterms:W3CDTF">2019-12-31T03:54:30Z</dcterms:modified>
  <cp:revision>939</cp:revision>
  <dc:subject/>
  <dc:title>ГРАЖДАНСКИЙ БЮДЖЕТ</dc:title>
</cp:coreProperties>
</file>